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421-899A-4E5A-B3F7-2D4A592F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FB9-46A2-4654-B6F9-787C4E56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A04-F4CC-4486-8514-841F77ED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018-097E-4FC1-8287-7B4FFC4E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6C2-5514-4C39-AABC-6D56F39F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13F-1D44-43B8-B292-EBA6F53B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70D-C77E-4E3D-B2AC-E087B49B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291-99F1-4C34-84C6-3040F7B1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DB3-C6BF-4CCD-BA9B-C221349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6FB-5AB6-4097-AA01-88D519D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FC3-11BC-413D-8C86-81838F7A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341-36BF-4B3A-B81B-B7BB190C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D99C-8CDB-40EA-A6D6-6657F41DA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ousesearch.uk.com/Portalmaps/images/maps/uk_north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9680"/>
            <a:ext cx="10333080" cy="671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flipV="1">
            <a:off x="593640" y="333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81720"/>
            <a:ext cx="507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ation by Dan Martin, Leed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208720" cy="3959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755640" y="54936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ITY CENTRE IS PACKED WITH SHOPS AND SERIVCES THIS IS WHAT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Leeds city squa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LOOK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084720" y="4149360"/>
            <a:ext cx="432000" cy="230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740720" y="5157720"/>
            <a:ext cx="360360" cy="122400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771280" y="4652640"/>
            <a:ext cx="36036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638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s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7840" y="61848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6381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6000" y="645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re are also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830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5580000" y="4221000"/>
            <a:ext cx="1728720" cy="1584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3860640"/>
            <a:ext cx="1584360" cy="792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RESTAURANTS</a:t>
            </a:r>
            <a:r>
              <a:rPr b="0" lang="en-GB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AND CA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3573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2565360"/>
            <a:ext cx="1655640" cy="863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659640" y="2060640"/>
            <a:ext cx="1225440" cy="1368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TOWN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96000" y="19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"/>
              </a:rPr>
              <a:t>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 cities follow the same layou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Inner ci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ner city is a cheaper place to live and to work 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d prices are therefore not as expensive as in the city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g factories are found here and back to back terraced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The suburbs of L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921440" cy="5327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35280" y="3860640"/>
            <a:ext cx="237672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 you can see Roundhay is a suburb of Lee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suburbs there is more space and les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often parks such as Roundhay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uses normally have bigger gardens than houses in the inne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46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ff"/>
                </a:solidFill>
                <a:latin typeface="Arial"/>
              </a:rPr>
              <a:t>Cities like Leeds can face some probl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Arial"/>
              </a:rPr>
              <a:t>Over crow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Arial"/>
              </a:rPr>
              <a:t>Homeles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Arial"/>
              </a:rPr>
              <a:t>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675640" cy="518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5030640" y="549360"/>
            <a:ext cx="549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04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ff"/>
                </a:solidFill>
                <a:latin typeface="Arial"/>
              </a:rPr>
              <a:t>Where is L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48000" y="3357720"/>
            <a:ext cx="1368360" cy="718920"/>
          </a:xfrm>
          <a:prstGeom prst="line">
            <a:avLst/>
          </a:prstGeom>
          <a:ln w="104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06400" y="6299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Lee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59640" y="1600200"/>
            <a:ext cx="223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is Yorkshi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2421000"/>
            <a:ext cx="1441440" cy="86364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24360" y="5013360"/>
            <a:ext cx="1439640" cy="50328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443280" y="4220640"/>
            <a:ext cx="1513080" cy="79236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4365720"/>
            <a:ext cx="2808360" cy="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7 0.23237 C -0.06649 0.20508 -0.18367 0.17803 -0.19218 0.13942 C -0.20069 0.10081 -0.10034 0.0504 6.38889E-006 -2.71676E-006 E">
                                      <p:cBhvr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Lee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4680" y="1301760"/>
            <a:ext cx="89884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4560" y="981000"/>
            <a:ext cx="8569440" cy="587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85360" y="4797360"/>
            <a:ext cx="4586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3336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47628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3399"/>
                </a:solidFill>
                <a:latin typeface="Arial"/>
              </a:rPr>
              <a:t>Areas within Leeds city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5157720"/>
            <a:ext cx="1835280" cy="160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eeds has a population of approximat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25,000 peopl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908000" y="98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628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Little London Prim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30872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012000" y="4076280"/>
            <a:ext cx="1081080" cy="792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484000" y="4221000"/>
            <a:ext cx="1081080" cy="79236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4869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River 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3789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Mot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2800440"/>
            <a:ext cx="3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2205000"/>
            <a:ext cx="1800360" cy="719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177336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Rail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nd where are the transport links into the city cent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Leeds is also one of the top three shopping destinations in the count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6640" y="1600200"/>
            <a:ext cx="3879720" cy="319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324144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re are other activities in the evening…..can you think of s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81640" y="1906560"/>
            <a:ext cx="2571840" cy="1571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92160" y="3938760"/>
            <a:ext cx="2968560" cy="2187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55640" y="1989000"/>
            <a:ext cx="3311640" cy="165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356000" y="3645000"/>
            <a:ext cx="3729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ff"/>
                </a:solidFill>
                <a:latin typeface="Arial"/>
              </a:rPr>
              <a:t>Lots of sport is played in the city cent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28800" y="1600200"/>
            <a:ext cx="309564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16360" y="1600200"/>
            <a:ext cx="3816360" cy="218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4027320"/>
            <a:ext cx="3961080" cy="23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34578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18:23Z</dcterms:created>
  <dc:creator>Information Systems Services</dc:creator>
  <dc:description/>
  <dc:language>en-US</dc:language>
  <cp:lastModifiedBy>Pauline kneale</cp:lastModifiedBy>
  <dcterms:modified xsi:type="dcterms:W3CDTF">2003-05-16T15:33:11Z</dcterms:modified>
  <cp:revision>24</cp:revision>
  <dc:subject/>
  <dc:title>Leeds City Centre</dc:title>
</cp:coreProperties>
</file>